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E33-14B0-448E-B466-73559987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827-A96A-4A47-A3CC-54832E2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BDD-9F44-48E4-B446-D8AEFA73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16C-D196-4DB4-BF66-2EAC033E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3DC-5485-4938-8F66-682A83A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AC3-2326-4107-8A14-AF71BCFF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7F4-E3AB-48D5-9B34-4434390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DF8-B194-4C33-A13B-752CFD6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B99-70C0-430C-9259-60E7E28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384-CB72-4B21-83EF-11AB4B3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674-2643-413A-8914-320B1B4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4E1-AA87-4819-94B4-0B42197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23A3-F7FA-4892-A4A8-C09E024C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z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lbert Gr.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572000"/>
            <a:ext cx="238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8380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Arizona is Pho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594360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76720" y="5791320"/>
            <a:ext cx="200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eni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 became a state February 14,1912 4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6232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4495680"/>
            <a:ext cx="280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4,006 square mile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3036960"/>
            <a:ext cx="64767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` s state flower is the Blossom Of The Saguaro Ca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is the Grand Canyon St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ird is the Cactus W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funny joke about Arizona “What has one eye but, can` t see” Answer Arizon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0120" y="5105520"/>
            <a:ext cx="12524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8:59:26Z</dcterms:created>
  <dc:creator>Mother of Divine Grace</dc:creator>
  <dc:description/>
  <dc:language>en-US</dc:language>
  <cp:lastModifiedBy>Mother of Divine Grace</cp:lastModifiedBy>
  <dcterms:modified xsi:type="dcterms:W3CDTF">2012-05-04T19:36:18Z</dcterms:modified>
  <cp:revision>2</cp:revision>
  <dc:subject/>
  <dc:title>Arizona </dc:title>
</cp:coreProperties>
</file>